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B84C-92B2-4DAF-B4DF-A64F07E43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B582-6273-4084-A2B7-587A43EAA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ing capacity should focus on these iss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D295-1791-4B47-B5C2-7757052E8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451F-3850-47E1-93B5-EE3A7360B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for capacities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0DB9-54F9-4A87-A160-EC7582657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nee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5664-A1B3-4353-9F39-A21B2BB88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5C79-D8F0-4BB7-BB4C-EAACAD88D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last three decades great advances have been  made in science. Here I group the applications in to two groups. Science for development as well as application for Emergency Preparednes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98AD-884B-4E9F-867E-5EB83A668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AD covets the supports of part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EDE4-42FD-4F68-876D-91D6CE9A7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D432-60E0-4CEE-B039-72F701690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896C-5D9F-4C32-A0E9-25EB16456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behalf of NPCA and the AUC thank the organizers for the invi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CD27-E9D6-48D5-A3F1-0191041FA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F857-5FEE-44F2-9AA2-E9FB2899A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F477-989B-419B-9343-D637E2901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5E47-CA6D-40D5-9E9D-B5B458C64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715C-DE26-4CF7-B91A-BD9C40CAE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C60B-7842-458A-96C3-54768FF31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the Food Security cluster – establishment of CAA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3BD7-03F3-46EA-9AF6-8B95ED7F2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91C9-F9FA-42AE-8E72-18689FEB2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32D0-8B1D-4EC9-BDA8-9CAE87BA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49B7-35FE-47B8-93E0-C6BDD412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8569-275B-48B7-8D6C-F3FDAB00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B472-F852-4744-8C51-C390F3A6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1201-CD45-4C8D-81C6-79163097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9FB7-583D-4C9F-9463-7948A83A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6E72-C1F4-45D4-BD55-6980571B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4B31-C846-4505-A379-9F566837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5853-E8E3-42D7-847A-ABA2BB5D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7D03-E49C-4652-A0A7-4D048608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D979-CA9B-47B4-9472-A6F25F4D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1FFE-8F4F-4B86-BC59-D8B69B6B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7A03-7F5B-4AAE-BF1B-84F61580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A569-4C85-4EA4-9CDD-F4BC5002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C5BC-9796-4C63-AC42-3098CA7A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93CF-618E-42CE-8D43-C47AB9E1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4636-05C0-4FF2-B837-DD60FAF3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9FF2-18AA-42A7-B098-F754A9A9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0890-B894-487F-AA41-7CD87DE5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5279-5A55-4E06-A143-984637BE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4160-CB35-4EC2-BB03-D64BC5AC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6176-D949-4745-8E3B-5303F349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D8EA-64F9-4108-88AD-C6022AB7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F681-03B1-46E1-9AD2-BCC7FA3C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"/>
          <p:cNvPicPr/>
          <p:nvPr/>
        </p:nvPicPr>
        <p:blipFill>
          <a:blip r:embed="rId2"/>
          <a:stretch/>
        </p:blipFill>
        <p:spPr>
          <a:xfrm>
            <a:off x="650880" y="0"/>
            <a:ext cx="8493120" cy="686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42A7-B884-42C3-8752-654B4B9FC32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NPCA logo.jpg"/>
          <p:cNvPicPr/>
          <p:nvPr/>
        </p:nvPicPr>
        <p:blipFill>
          <a:blip r:embed="rId3"/>
          <a:stretch/>
        </p:blipFill>
        <p:spPr>
          <a:xfrm>
            <a:off x="3924360" y="5445000"/>
            <a:ext cx="2450880" cy="12081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10 year logo-latest 51.jpg"/>
          <p:cNvPicPr/>
          <p:nvPr/>
        </p:nvPicPr>
        <p:blipFill>
          <a:blip r:embed="rId4"/>
          <a:stretch/>
        </p:blipFill>
        <p:spPr>
          <a:xfrm>
            <a:off x="6012000" y="5805360"/>
            <a:ext cx="2555640" cy="8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"/>
          <p:cNvPicPr/>
          <p:nvPr/>
        </p:nvPicPr>
        <p:blipFill>
          <a:blip r:embed="rId2"/>
          <a:stretch/>
        </p:blipFill>
        <p:spPr>
          <a:xfrm>
            <a:off x="650880" y="0"/>
            <a:ext cx="8493120" cy="6864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NPCA logo.jpg"/>
          <p:cNvPicPr/>
          <p:nvPr/>
        </p:nvPicPr>
        <p:blipFill>
          <a:blip r:embed="rId3"/>
          <a:stretch/>
        </p:blipFill>
        <p:spPr>
          <a:xfrm>
            <a:off x="3924360" y="5445000"/>
            <a:ext cx="2450880" cy="1208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10 year logo-latest 51.jpg"/>
          <p:cNvPicPr/>
          <p:nvPr/>
        </p:nvPicPr>
        <p:blipFill>
          <a:blip r:embed="rId4"/>
          <a:stretch/>
        </p:blipFill>
        <p:spPr>
          <a:xfrm>
            <a:off x="6012000" y="5805360"/>
            <a:ext cx="2555640" cy="857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87640" y="61653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1A8D-89E0-4C3F-BD5A-18512DAE2C4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CAADP’s Pillar III and Africa’s Capacity Building Requirements for Food Security Information Systems</a:t>
            </a:r>
            <a:br>
              <a:rPr sz="4000"/>
            </a:b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tle 2"/>
          <p:cNvSpPr/>
          <p:nvPr/>
        </p:nvSpPr>
        <p:spPr>
          <a:xfrm>
            <a:off x="395280" y="2852640"/>
            <a:ext cx="77724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050920" y="27813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keholders Consultative Conference on the Food Security Information Network (FSI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fari Park Hotel, Nairobi, Ke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ptember 8-9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le 2"/>
          <p:cNvSpPr/>
          <p:nvPr/>
        </p:nvSpPr>
        <p:spPr>
          <a:xfrm>
            <a:off x="1258920" y="4437000"/>
            <a:ext cx="5905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rudom@nepad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Improving early warning systems and crisis preven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rehensive risk assessments at national, district and community levels followed by the formulation of risk-reduction strategies at all administrative leve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est in village level monitoring, reporting and prevention mechan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engthening of sectoral information monitoring systems relevant to food and nutri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itutionalization of food insecurity risk management systems at national, regional and continental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ment of  national, regional and Pan-African emergency response mechanisms including trans-boundary animal disease cont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tion of local capacities and coping strategies into national and regional crisis preparedness strate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conditional transfers of food, cash, and other items where appropri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d utilization of domestic and regional trade to stabilize food supplies (and prices) in affected mark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broad-based logistics capacities, decentralizing functions where fea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protocols to enhance coordination among government, civil society, and international humanitarian a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orporation of food and nutrition security under special recovery plans and existing poverty reduction strategies and pl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Improving management of emerg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Strengthening risk management policies and institu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4000" y="1341000"/>
            <a:ext cx="8640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ulation of improved risk mgt policies, incl. proactive review and use of alternative instruments to deal with crises, e.g., food &amp; financial reserves, weather-based insurance &amp; futures o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orporation of food &amp; nutrition security under special recovery plans and existing poverty reduction strategies and pl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ment of objective criteria for selecting among resource transfer modalities, focusing on in-kind food and cash transf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policies and institutions for improved management of food surpl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broad-based social protec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ing of food security platforms within social protec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Challenges in the implementation of FAF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jor capacity gap in data, information and knowledge in food security monitoring and disaster risk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vy dependency on adhoc early warning and food security monitoring systems operated by partn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integration of such system in to national, regional, and continental strate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Africa led framework that ensures standardized approach across countries and reg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integration, coordination and networking in managing food insecurity and disaster risk management and climate change challe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Continental investment --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NPCA is has identified key interventions  for the implementation of FAF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velop a Continental early warning and food security information portal (platform) at NP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analytical capacity of NPCA and the AUC where information coming from the RECs and member states will be synthesized for decision making and policy dialogue and respon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engthen REC’s capacity to undertake Africa led emergency assessments, contingency planning and resource mobil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engthen member states and RECs operational capacity to respond to emer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regional and continental  preparedness modalities for disaster risk red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ordinate institutional capacity building support for the AU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, RECs, regional EWS institutions and member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Integrate in FAFS latest advances in Sc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-3052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provements in Food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541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ement in agriculture production and y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541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ed agricultural processing and storag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541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ed water and soil conserv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541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olar, wind, geo-thermal and small scale hydro-electric gen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54160">
              <a:lnSpc>
                <a:spcPct val="120000"/>
              </a:lnSpc>
              <a:spcBef>
                <a:spcPts val="700"/>
              </a:spcBef>
              <a:buClr>
                <a:srgbClr val="f69b2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69b2c"/>
                </a:solidFill>
                <a:latin typeface="Calibri"/>
              </a:rPr>
              <a:t>Improved monitoring and early w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54160">
              <a:lnSpc>
                <a:spcPct val="120000"/>
              </a:lnSpc>
              <a:spcBef>
                <a:spcPts val="499"/>
              </a:spcBef>
              <a:buClr>
                <a:srgbClr val="f69b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69b2c"/>
                </a:solidFill>
                <a:latin typeface="Calibri"/>
              </a:rPr>
              <a:t>Improved ICT and satellite ap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54160">
              <a:lnSpc>
                <a:spcPct val="120000"/>
              </a:lnSpc>
              <a:spcBef>
                <a:spcPts val="499"/>
              </a:spcBef>
              <a:buClr>
                <a:srgbClr val="f69b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69b2c"/>
                </a:solidFill>
                <a:latin typeface="Calibri"/>
              </a:rPr>
              <a:t>Improved weather foreca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54160">
              <a:lnSpc>
                <a:spcPct val="120000"/>
              </a:lnSpc>
              <a:spcBef>
                <a:spcPts val="499"/>
              </a:spcBef>
              <a:buClr>
                <a:srgbClr val="f69b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69b2c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f69b2c"/>
                </a:solidFill>
                <a:latin typeface="Calibri"/>
              </a:rPr>
              <a:t>Improved crop mode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54160">
              <a:lnSpc>
                <a:spcPct val="120000"/>
              </a:lnSpc>
              <a:spcBef>
                <a:spcPts val="499"/>
              </a:spcBef>
              <a:buClr>
                <a:srgbClr val="f69b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69b2c"/>
                </a:solidFill>
                <a:latin typeface="Calibri"/>
              </a:rPr>
              <a:t>Improved risk and hazard analysis and model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54160">
              <a:lnSpc>
                <a:spcPct val="120000"/>
              </a:lnSpc>
              <a:spcBef>
                <a:spcPts val="499"/>
              </a:spcBef>
              <a:buClr>
                <a:srgbClr val="f69b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69b2c"/>
                </a:solidFill>
                <a:latin typeface="Calibri"/>
              </a:rPr>
              <a:t>Innovative applications such as drought insurance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395280" y="1413000"/>
            <a:ext cx="792000" cy="2447640"/>
          </a:xfrm>
          <a:custGeom>
            <a:avLst/>
            <a:gdLst>
              <a:gd name="textAreaLeft" fmla="*/ 506160 w 792000"/>
              <a:gd name="textAreaRight" fmla="*/ 792360 w 792000"/>
              <a:gd name="textAreaTop" fmla="*/ 65160 h 2447640"/>
              <a:gd name="textAreaBottom" fmla="*/ 238248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0"/>
                  <a:pt x="10800" y="1839"/>
                </a:cubicBezTo>
                <a:lnTo>
                  <a:pt x="10800" y="8961"/>
                </a:lnTo>
                <a:cubicBezTo>
                  <a:pt x="10800" y="9881"/>
                  <a:pt x="5400" y="10800"/>
                  <a:pt x="0" y="10800"/>
                </a:cubicBezTo>
                <a:cubicBezTo>
                  <a:pt x="5400" y="10800"/>
                  <a:pt x="10800" y="11720"/>
                  <a:pt x="10800" y="12639"/>
                </a:cubicBezTo>
                <a:lnTo>
                  <a:pt x="10800" y="19761"/>
                </a:lnTo>
                <a:cubicBezTo>
                  <a:pt x="10800" y="20681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 rot="16200000">
            <a:off x="-1040400" y="16959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VELO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95280" y="3860640"/>
            <a:ext cx="863640" cy="2494080"/>
          </a:xfrm>
          <a:custGeom>
            <a:avLst/>
            <a:gdLst>
              <a:gd name="textAreaLeft" fmla="*/ 551880 w 863640"/>
              <a:gd name="textAreaRight" fmla="*/ 864000 w 863640"/>
              <a:gd name="textAreaTop" fmla="*/ 61200 h 2494080"/>
              <a:gd name="textAreaBottom" fmla="*/ 2432880 h 249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49"/>
                  <a:pt x="10800" y="1697"/>
                </a:cubicBezTo>
                <a:lnTo>
                  <a:pt x="10800" y="9103"/>
                </a:lnTo>
                <a:cubicBezTo>
                  <a:pt x="10800" y="9952"/>
                  <a:pt x="5400" y="10800"/>
                  <a:pt x="0" y="10800"/>
                </a:cubicBezTo>
                <a:cubicBezTo>
                  <a:pt x="5400" y="10800"/>
                  <a:pt x="10800" y="11649"/>
                  <a:pt x="10800" y="12497"/>
                </a:cubicBezTo>
                <a:lnTo>
                  <a:pt x="10800" y="19903"/>
                </a:lnTo>
                <a:cubicBezTo>
                  <a:pt x="10800" y="20752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 rot="16200000">
            <a:off x="-1083960" y="479988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ER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Role of Partners in Supporting NPCA’s Initia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1557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NPCA’s effort to establish an effective and transparent regional and continental level early warning and disaster risk management plat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part in the networking of regional and continental level early warning and disaster risk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in technical and financial resource mobilization to implement the NPCA planned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ordinate with the Regional Coordination Mechanism ( RCM)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griculture, Food security and Rural Development Cluster (AFSRD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AFSRDC  is led by FAO and WFP from the UN system and has concluded capacity needs assessment of the AUC and NP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In then MID Term Comprehensive Capacity Building Programme for NPCA and the AU, AFSRDC has identified specific capacity building prioriti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PCA and the AUC support the proposed Global FSIN initi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frica, we hope this initiative will support and strengthen existing Africa led frameworks such as the implementation of FAF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stablishing a Continental early warning and food security information portal (platform) at NPCA will ensure political support at the highest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will also ensure accountability, sustainability and also acceptability by African Governm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 our development partners interested to help in this area, NPCA has a detailed proposal that we could share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with you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rci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Introduc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support to the humanitarian and development partners for their initiative to strengthen Food Security Information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ree on the need for such effort but need to consider ownership, accountability and ensure sustainability by supporting existing Africa owned framework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ectation of NPCA and the AUC from this meeting is a strong commitment to support African Effor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Food and Nutrition Insecurity Challen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od and Nutrition Situation of many Africans: precarious  state ; millions exposed to recurrent food and nutrition cri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501be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be5"/>
                </a:solidFill>
                <a:latin typeface="Calibri"/>
              </a:rPr>
              <a:t>The current crisis in the Horn of Africa where more than 13 million people are in need of emergency support is a case in poin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501be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be5"/>
                </a:solidFill>
                <a:latin typeface="Calibri"/>
              </a:rPr>
              <a:t>The AU, for the first time in its history has organized a pledging conference to raise resources from its member states for the emergenc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od and Nutrition problems are expected to be even more challenging as the underlining causes such as poverty and vulnerability are compounded by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501be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be5"/>
                </a:solidFill>
                <a:latin typeface="Calibri"/>
              </a:rPr>
              <a:t>The adverse impacts of Climate Chang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501be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be5"/>
                </a:solidFill>
                <a:latin typeface="Calibri"/>
              </a:rPr>
              <a:t>Persisting Global Financial Cri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501be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be5"/>
                </a:solidFill>
                <a:latin typeface="Calibri"/>
              </a:rPr>
              <a:t>High volatility for food, agricultural inputs and fu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African Leaders’ Commitment to Address the Challenges of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rican leaders, concerned by the limited progress in addressing the multitude of problems that Africans are facing, decided to establish Africa’s own agenda with a clear vision and strategy –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w Partnership for Africa’s Development - NEP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PAD was formally adopted as an integrated socio-economic development framework for Africa by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37th Ordinary Session of the Assembly of the then Organisation of African Unity (OAU) held in Lusaka, Zambia, in July 2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imary goal set by NEPAD is to promote sustainable growth and development and ensure the food and nutrition security of the whole of Afr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6407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Calibri"/>
              </a:rPr>
              <a:t>Key principles that guide the implementation of NEP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frican ownership and leadership, &amp; broad and deep participation by all sectors of societ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nchoring the development of Africa on its resources and resourcefulness of its peopl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artnership between and amongst African people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cceleration of regional and continental integration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ing the competitiveness of African countries and the continent as a whole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orging a new international partnership that changes the unequal relationship between Africa and the developed world; &amp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nsuring that all partnerships with NPCA are linked to the Millennium Development Goals (MDGs) and other agreed development goals and targe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1be5"/>
                </a:solidFill>
                <a:latin typeface="Calibri"/>
              </a:rPr>
              <a:t>The NEPAD Planning and Coordinating Agency and its man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acilitate the delivery of high quality programmes and projects and to promote Africa’s Development and Regional Integration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U assembly transformed NEPAD into the NEPAD Planning and Coordinating Agency NPCA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514440">
              <a:buClr>
                <a:srgbClr val="00b05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Strengthen networking and part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514440">
              <a:buClr>
                <a:srgbClr val="00b05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Mobilize expert knowledge and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514440">
              <a:buClr>
                <a:srgbClr val="00b05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Conduct coordinated research and knowledge manage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514440">
              <a:buClr>
                <a:srgbClr val="00b05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Facilitate, coordinate and establish networking in the implementation of regional, and continental priority programs and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NPCA priority areas of interven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01be5"/>
                </a:solidFill>
                <a:latin typeface="Calibri"/>
              </a:rPr>
              <a:t>The five themes of NPCA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od Security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imate Change and Sustainable Developmen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gional Integration and Infrastructu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uman Capital Development;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conomic and Corporate Govern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Calibri"/>
              </a:rPr>
              <a:t>The Comprehensive Africa’s Agriculture Development Programme - CAAD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1be5"/>
                </a:solidFill>
                <a:latin typeface="Calibri"/>
              </a:rPr>
              <a:t>Food security cluster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– establishment of CAADP - Africa’s response to agricultural development and food security. CAADP has four mutually reinforcing and interlinked pillars: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illar 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Extending the area under sustainable land management and reliable water control system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illar I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Improving rural infrastructure and trade-related capacities for market acces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501b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501be5"/>
                </a:solidFill>
                <a:latin typeface="Calibri"/>
              </a:rPr>
              <a:t>Pillar III</a:t>
            </a:r>
            <a:r>
              <a:rPr b="1" lang="en-GB" sz="2400" spc="-1" strike="noStrike">
                <a:solidFill>
                  <a:srgbClr val="501be5"/>
                </a:solidFill>
                <a:latin typeface="Calibri"/>
              </a:rPr>
              <a:t>: Increasing food supply, reducing hunger and improving responses to food emergency crises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illar IV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Improving agriculture research, technology dissemination and ado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alibri"/>
              </a:rPr>
              <a:t>CAADP Pillar III Framework for African Food Security (FAF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PCA in collaboration with its partners has developed  a f/work  for food and nutrition security with the following eleme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501be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1be5"/>
                </a:solidFill>
                <a:latin typeface="Calibri"/>
              </a:rPr>
              <a:t>Improving  risk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arly warning and crisis prev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nagement of emer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engthening risk management policies and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501be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1be5"/>
                </a:solidFill>
                <a:latin typeface="Calibri"/>
              </a:rPr>
              <a:t>Increasing food su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atural resourc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echnology development and upta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keting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501be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1be5"/>
                </a:solidFill>
                <a:latin typeface="Calibri"/>
              </a:rPr>
              <a:t>Addressing the needs of vulnerable popu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come generating 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sset accumu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stainable livelihoo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fra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2:36:08Z</dcterms:created>
  <dc:creator>Benita Nsabua</dc:creator>
  <dc:description/>
  <dc:language>en-US</dc:language>
  <cp:lastModifiedBy>Luca Russo</cp:lastModifiedBy>
  <dcterms:modified xsi:type="dcterms:W3CDTF">2011-09-08T06:11:37Z</dcterms:modified>
  <cp:revision>24</cp:revision>
  <dc:subject/>
  <dc:title>Slide 1</dc:title>
</cp:coreProperties>
</file>